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1BA-5CA4-4117-B3F3-72D17788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B62-B818-4DA3-8A0D-3A98320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54D-516C-4C2F-AF08-2CB005AF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399-86D0-4926-894A-8B5E8F0F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0D94-C6E1-4248-8E14-A4333DE1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0110-B057-4C3F-A1CA-4198D123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74A1-1949-4FB8-B387-DCE41A7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5B9-B216-4614-A7AA-74F6C7AC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ADD5-D70F-4A65-8135-00CBFEF5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3361-0932-4421-991F-A181685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1FE-D71B-4E53-8B06-30D6971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050-3FA7-4264-ADE2-17AA11D0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9E5-1ED8-4012-ACDF-1C511D0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F3E9-EFEB-468E-A8B7-492FD40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0F4E-C683-4E54-B167-6BE7888C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9982-014C-43B6-AC3C-28A976E0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CFD-F1E3-4928-AD7A-31DB8CC4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BA1-D7E5-4B2A-AD57-280D15FD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25F-83ED-4B1D-968F-ED1A97F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DE2-9DCD-4516-A852-D02494EC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277-C16A-43D3-A122-FB72114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2B6-C983-4602-86FA-214662E0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4D6-C29C-44CB-AF46-ACCDA61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4C5-2EF9-4F5E-BCAC-CA20D88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DCBB-A37C-470E-B6D7-2ADFAF4EDC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025B-9A7E-4B7A-AF49-F2447B07FC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228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разноуровневыми вопросами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то такое каменноугольны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чему этот период называется каменноугольным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Что такое юрски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бъясните причины вымирания динозавров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3T11:31:3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